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wmf" ContentType="image/x-wmf"/>
  <Override PartName="/ppt/media/image10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9EC6-F0CF-48D7-9A0F-1170EE0A2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2F6B-D001-4233-A5A4-E641E6839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53C-2224-4FD8-8AF1-51108151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9F07-CF4B-4B83-9B65-7BDA24E6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6BEB-6DA9-445B-9ABA-FA5B009D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B74-7909-4133-BF1D-AE4544A6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B799-295B-44D0-A7DB-132768DF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040C-9256-4A84-8BE1-89C93975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2881-2DB8-4AAA-8D3D-D24EBBC6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561A-5AEF-419E-AB3D-1BB92E9D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4B24-977F-4D72-950A-69CCDB23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749B-6575-40B4-A2CA-4592FEB2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5199-1FC7-4156-B62D-B2509F44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C86-5DDC-4D0D-9060-29AE456C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DC83-B1D1-4B8D-9C89-36013459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E8C8-A0E0-4FDD-A3BB-3C56A1CD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FDA8-835D-4BFB-8E61-978E2E18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8EE9-5E55-429E-AE2A-F543D287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64CD-64B7-4536-87A8-B3D17BA0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64A52-106F-437A-A1FD-36271EB7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1D4BF-82B4-4711-ACD2-82C15C0C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13894-0C84-420C-A880-E568A613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CB81A-4B76-4950-ABA6-74577FAF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E4565-9A4F-4052-8AF3-243A5445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867-2C0A-4F0B-88F6-D3ADD719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BEA8E-D512-46FB-B385-0DDF57C2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67D13-87B8-43C1-8FB8-14639142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783FB-D0DE-4E7D-AE4E-12F7C31A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BA97A-C74B-4306-BBFC-6BD8413F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022D0-B331-4408-B376-2FF9639E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03CFF-8D5C-42E4-8FF3-FDDAD29C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C8492-0208-40AC-BFC3-E514916B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B332B-FF9C-4E7A-8611-63669564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8DDDA-AD01-48F1-96F8-EFB7C361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06BA5-E93E-4091-A859-031B1ECF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CB19-5F56-4CC0-B2A7-161AC996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0E38F-40C7-4CF3-BF1A-FA2B5E25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6B8A8-2C69-4455-A4E7-73E18CFA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79CC8-63FB-4F7E-8D72-81C39ED1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ED009-AD74-4212-9A42-F2B5F169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2AA54-5461-4EDC-9DC9-13A767F5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C83F9-8AD8-4F51-9F39-09DBA27D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E8373-1286-4EB6-9678-7999BFB9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1F586-1A85-448E-A12C-BCC6AD4A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5A6EA-3369-4542-8A28-588FB7E4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374-840B-4321-969B-4594477D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0FDC-0D70-4929-8599-AA2C8194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D8C6-19B7-41FA-B7A1-DE51AD79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2B8B-ED68-405F-93C2-E0F510CF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019-F5FC-4E64-8CE5-EBCF20AD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60D1-36F2-4D7F-B456-6E131E9D6AB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73AA-A88B-4777-8A88-52A4DE6B9DE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DEFB-0392-49EE-A2C6-2D06199FC26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0C51-C3F4-4702-9A0D-1567980DF65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Russian Economy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kerdilaid Ho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entral School, December 201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4674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 resourc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uxite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Gold, Co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p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ron, Le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atural g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ick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etroli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in, Zin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81280" y="1599840"/>
            <a:ext cx="5112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Gold is one of Russia top sourc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C:\Users\cool\AppData\Local\Microsoft\Windows\Temporary Internet Files\Content.IE5\2IUTAM3Y\MP900289272[1].jpg"/>
          <p:cNvPicPr/>
          <p:nvPr/>
        </p:nvPicPr>
        <p:blipFill>
          <a:blip r:embed="rId2"/>
          <a:stretch/>
        </p:blipFill>
        <p:spPr>
          <a:xfrm>
            <a:off x="4572000" y="2209680"/>
            <a:ext cx="30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 industr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267080" cy="46908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7000"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Industrial production growth  rate 13.1%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Metals are used to make advanced air crafts, ships , missiles,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Defensive technology include- radars, and advanced electronics components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Medical and scientific industry include- textiles ,handicrafts ,foodstuff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Road and rail transportation include- communication equipment, tractors, agriculture machinery, and construction equipment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MS900074858[1].wav" descr=""/>
          <p:cNvPicPr/>
          <p:nvPr/>
        </p:nvPicPr>
        <p:blipFill>
          <a:blip r:embed="rId2"/>
          <a:stretch/>
        </p:blipFill>
        <p:spPr>
          <a:xfrm>
            <a:off x="617220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Users\cool\AppData\Local\Microsoft\Windows\Temporary Internet Files\Content.IE5\2IUTAM3Y\MP900390146[1].jpg"/>
          <p:cNvPicPr/>
          <p:nvPr/>
        </p:nvPicPr>
        <p:blipFill>
          <a:blip r:embed="rId3"/>
          <a:stretch/>
        </p:blipFill>
        <p:spPr>
          <a:xfrm>
            <a:off x="5105520" y="175248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476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oscow reg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scow  is Russia economic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argest transportation h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actories are focused on heavy industri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opulation  10,470,318 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4800" y="1447560"/>
            <a:ext cx="51116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3" descr="C:\Users\cool\AppData\Local\Microsoft\Windows\Temporary Internet Files\Content.IE5\04V09QGG\MC900101208[1].wmf"/>
          <p:cNvPicPr/>
          <p:nvPr/>
        </p:nvPicPr>
        <p:blipFill>
          <a:blip r:embed="rId2"/>
          <a:stretch/>
        </p:blipFill>
        <p:spPr>
          <a:xfrm>
            <a:off x="3962520" y="2286000"/>
            <a:ext cx="46717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ussia port ci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ussia has 5 important ports c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t is hard for  the port cities to transport goods because  the water in all the other port cities are froze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aliningrad, and St. Petersburg. Murmansk, Vladivostok, and Astrakh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aliningrad has eliminated all taxes on shipping goo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t. Petersburg makes light machinery, textiles, scientific, and medical equipm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hile the other port cities trade bring goods to Russia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2"/>
          <a:stretch/>
        </p:blipFill>
        <p:spPr>
          <a:xfrm>
            <a:off x="530280" y="1311120"/>
            <a:ext cx="7864560" cy="25052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09480" y="480060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nstantia"/>
              </a:rPr>
              <a:t>Question??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9:15:47Z</dcterms:created>
  <dc:creator>cool</dc:creator>
  <dc:description/>
  <dc:language>en-US</dc:language>
  <cp:lastModifiedBy> </cp:lastModifiedBy>
  <dcterms:modified xsi:type="dcterms:W3CDTF">2010-12-20T19:26:53Z</dcterms:modified>
  <cp:revision>19</cp:revision>
  <dc:subject/>
  <dc:title>Economy</dc:title>
</cp:coreProperties>
</file>